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A11E-A74E-4FC9-BF12-6A52D6A01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A06F-AEBC-4827-8AD9-9F0BF0CE3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1D1B-D249-4881-B9A9-867102C58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A724-1C54-4754-B54E-ABCCB825B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91B1-22B2-47FB-91F3-7DD2BF39F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5F92-680A-4964-81E4-273468931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989B-EAB8-4BCD-96E7-A7946B988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5079-86CB-48E8-B19F-4DD5AF151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CB83-FFB1-4DE1-AAF5-B17CE963A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9AD7-2ACB-4037-9E59-FBAC49F4A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7D50-E3EC-4447-998C-C1DE11D27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12DE-F9A9-4E19-9804-AFFE8F112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80B7-BAD3-40E5-9061-377F789175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7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9200-797F-4B24-AB06-D93D193D20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spond to students in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do we ask to promote student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our questions funneling (to arrive at the teacher’s thinking) or focusing (to focus students on their own thinking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C1B4-8C9D-4D10-B7A4-F50A99D452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through the DI Question Cards (or Mathematical Processes on Compu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used any of these questions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s do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B1CD-5062-4AD2-AC4F-D59305D3C8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more than 20 markers. When you give them out in groups of 3, there is exactly one marker leftover. How many markers could there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D6D3-7A2B-491D-983B-C1106C7104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6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207A-3D86-474D-8E37-4CA771ABF1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Mark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4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group intera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y thinking additively or multiplica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they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manipulatives help their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like to ask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B008-C17D-4925-9BAF-2FDE45803E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now look at a few student s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y solved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at question you would want to ask this student if you were there while they were working on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36C4-B0F8-4C4E-BC8A-08B742AEF1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D595-2D58-4EC6-A9DF-235E2210DA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7"/>
          <p:cNvSpPr/>
          <p:nvPr/>
        </p:nvSpPr>
        <p:spPr>
          <a:xfrm>
            <a:off x="380880" y="38098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, 26, 29, 32, 35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5EFE-D6D7-4FC0-9370-7B0F4D118C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, 22, 25, 28, 31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D9E8-9B0E-4A29-8C04-3055F53BF5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9907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13716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7524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2096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25909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29718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350532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3886200" y="1676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42670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685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4"/>
          <p:cNvSpPr/>
          <p:nvPr/>
        </p:nvSpPr>
        <p:spPr>
          <a:xfrm>
            <a:off x="1066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1447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6"/>
          <p:cNvSpPr/>
          <p:nvPr/>
        </p:nvSpPr>
        <p:spPr>
          <a:xfrm>
            <a:off x="19810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23623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7432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33526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37339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41148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510552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4"/>
          <p:cNvSpPr/>
          <p:nvPr/>
        </p:nvSpPr>
        <p:spPr>
          <a:xfrm>
            <a:off x="5486400" y="22096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4952880" y="1676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762120" y="2895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2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them into 7 groups of 3 and there is one more left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7"/>
          <p:cNvSpPr/>
          <p:nvPr/>
        </p:nvSpPr>
        <p:spPr>
          <a:xfrm>
            <a:off x="304920" y="4419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E5AD-5AC9-4D79-90BB-9069A7A10E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9"/>
          <p:cNvSpPr/>
          <p:nvPr/>
        </p:nvSpPr>
        <p:spPr>
          <a:xfrm>
            <a:off x="685800" y="2819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urved Down Arrow 30"/>
          <p:cNvSpPr/>
          <p:nvPr/>
        </p:nvSpPr>
        <p:spPr>
          <a:xfrm>
            <a:off x="6858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rved Down Arrow 31"/>
          <p:cNvSpPr/>
          <p:nvPr/>
        </p:nvSpPr>
        <p:spPr>
          <a:xfrm>
            <a:off x="12193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rved Down Arrow 32"/>
          <p:cNvSpPr/>
          <p:nvPr/>
        </p:nvSpPr>
        <p:spPr>
          <a:xfrm>
            <a:off x="17524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rved Down Arrow 33"/>
          <p:cNvSpPr/>
          <p:nvPr/>
        </p:nvSpPr>
        <p:spPr>
          <a:xfrm>
            <a:off x="228600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rved Down Arrow 34"/>
          <p:cNvSpPr/>
          <p:nvPr/>
        </p:nvSpPr>
        <p:spPr>
          <a:xfrm>
            <a:off x="2819520" y="2514600"/>
            <a:ext cx="533160" cy="304920"/>
          </a:xfrm>
          <a:custGeom>
            <a:avLst/>
            <a:gdLst>
              <a:gd name="textAreaLeft" fmla="*/ 104760 w 533160"/>
              <a:gd name="textAreaRight" fmla="*/ 390600 w 53316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urved Down Arrow 35"/>
          <p:cNvSpPr/>
          <p:nvPr/>
        </p:nvSpPr>
        <p:spPr>
          <a:xfrm>
            <a:off x="3352680" y="2514600"/>
            <a:ext cx="533520" cy="304920"/>
          </a:xfrm>
          <a:custGeom>
            <a:avLst/>
            <a:gdLst>
              <a:gd name="textAreaLeft" fmla="*/ 104760 w 533520"/>
              <a:gd name="textAreaRight" fmla="*/ 390600 w 533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86" hR="21600" stAng="10800000" swAng="5400000"/>
                <a:lnTo>
                  <a:pt x="11571" y="0"/>
                </a:lnTo>
                <a:arcTo wR="8486" hR="21600" stAng="-5400000" swAng="3401198"/>
                <a:lnTo>
                  <a:pt x="21331" y="16200"/>
                </a:lnTo>
                <a:lnTo>
                  <a:pt x="18515" y="21600"/>
                </a:lnTo>
                <a:lnTo>
                  <a:pt x="15160" y="16200"/>
                </a:lnTo>
                <a:lnTo>
                  <a:pt x="16703" y="16200"/>
                </a:lnTo>
                <a:arcTo wR="8486" hR="21600" stAng="-1998802" swAng="-3151980"/>
                <a:lnTo>
                  <a:pt x="10029" y="360"/>
                </a:lnTo>
                <a:arcTo wR="8486" hR="21600" stAng="-5649218" swAng="-5150782"/>
                <a:close/>
              </a:path>
              <a:path fill="darkenLess" w="21600" h="21600">
                <a:moveTo>
                  <a:pt x="0" y="21600"/>
                </a:moveTo>
                <a:arcTo wR="8486" hR="21600" stAng="10800000" swAng="5400000"/>
                <a:lnTo>
                  <a:pt x="8486" y="0"/>
                </a:lnTo>
                <a:arcTo wR="8486" hR="21600" stAng="-5400000" swAng="249218"/>
                <a:lnTo>
                  <a:pt x="10029" y="360"/>
                </a:lnTo>
                <a:arcTo wR="8486" hR="21600" stAng="-5649218" swAng="-51507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rved Down Arrow 36"/>
          <p:cNvSpPr/>
          <p:nvPr/>
        </p:nvSpPr>
        <p:spPr>
          <a:xfrm>
            <a:off x="3886200" y="2514600"/>
            <a:ext cx="304920" cy="304920"/>
          </a:xfrm>
          <a:custGeom>
            <a:avLst/>
            <a:gdLst>
              <a:gd name="textAreaLeft" fmla="*/ 47520 w 304920"/>
              <a:gd name="textAreaRight" fmla="*/ 219240 w 3049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533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9"/>
          <p:cNvSpPr/>
          <p:nvPr/>
        </p:nvSpPr>
        <p:spPr>
          <a:xfrm>
            <a:off x="10666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0"/>
          <p:cNvSpPr/>
          <p:nvPr/>
        </p:nvSpPr>
        <p:spPr>
          <a:xfrm>
            <a:off x="16002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1"/>
          <p:cNvSpPr/>
          <p:nvPr/>
        </p:nvSpPr>
        <p:spPr>
          <a:xfrm>
            <a:off x="21337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2"/>
          <p:cNvSpPr/>
          <p:nvPr/>
        </p:nvSpPr>
        <p:spPr>
          <a:xfrm>
            <a:off x="26668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3"/>
          <p:cNvSpPr/>
          <p:nvPr/>
        </p:nvSpPr>
        <p:spPr>
          <a:xfrm>
            <a:off x="32004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4"/>
          <p:cNvSpPr/>
          <p:nvPr/>
        </p:nvSpPr>
        <p:spPr>
          <a:xfrm>
            <a:off x="36576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6"/>
          <p:cNvSpPr/>
          <p:nvPr/>
        </p:nvSpPr>
        <p:spPr>
          <a:xfrm>
            <a:off x="106668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7"/>
          <p:cNvSpPr/>
          <p:nvPr/>
        </p:nvSpPr>
        <p:spPr>
          <a:xfrm>
            <a:off x="1600200" y="2057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8"/>
          <p:cNvSpPr/>
          <p:nvPr/>
        </p:nvSpPr>
        <p:spPr>
          <a:xfrm>
            <a:off x="1981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9"/>
          <p:cNvSpPr/>
          <p:nvPr/>
        </p:nvSpPr>
        <p:spPr>
          <a:xfrm>
            <a:off x="25146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0"/>
          <p:cNvSpPr/>
          <p:nvPr/>
        </p:nvSpPr>
        <p:spPr>
          <a:xfrm>
            <a:off x="30481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1"/>
          <p:cNvSpPr/>
          <p:nvPr/>
        </p:nvSpPr>
        <p:spPr>
          <a:xfrm>
            <a:off x="35812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2"/>
          <p:cNvSpPr/>
          <p:nvPr/>
        </p:nvSpPr>
        <p:spPr>
          <a:xfrm>
            <a:off x="3962520" y="2895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3"/>
          <p:cNvSpPr/>
          <p:nvPr/>
        </p:nvSpPr>
        <p:spPr>
          <a:xfrm>
            <a:off x="39625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4"/>
          <p:cNvSpPr/>
          <p:nvPr/>
        </p:nvSpPr>
        <p:spPr>
          <a:xfrm>
            <a:off x="7621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5"/>
          <p:cNvSpPr/>
          <p:nvPr/>
        </p:nvSpPr>
        <p:spPr>
          <a:xfrm>
            <a:off x="12952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6"/>
          <p:cNvSpPr/>
          <p:nvPr/>
        </p:nvSpPr>
        <p:spPr>
          <a:xfrm>
            <a:off x="18288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7"/>
          <p:cNvSpPr/>
          <p:nvPr/>
        </p:nvSpPr>
        <p:spPr>
          <a:xfrm>
            <a:off x="2362320" y="243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8"/>
          <p:cNvSpPr/>
          <p:nvPr/>
        </p:nvSpPr>
        <p:spPr>
          <a:xfrm>
            <a:off x="28954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9"/>
          <p:cNvSpPr/>
          <p:nvPr/>
        </p:nvSpPr>
        <p:spPr>
          <a:xfrm>
            <a:off x="34290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0"/>
          <p:cNvSpPr/>
          <p:nvPr/>
        </p:nvSpPr>
        <p:spPr>
          <a:xfrm>
            <a:off x="38862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46B0-BD4C-4161-8F3B-C6919325D9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E:\Beach Images\Beach &amp; Water (K - P)\Paddleboat 2.wmf"/>
          <p:cNvPicPr/>
          <p:nvPr/>
        </p:nvPicPr>
        <p:blipFill>
          <a:blip r:embed="rId1"/>
          <a:stretch/>
        </p:blipFill>
        <p:spPr>
          <a:xfrm>
            <a:off x="2057400" y="1600200"/>
            <a:ext cx="4672080" cy="325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5F00-9F01-46D2-8D5E-8BF5C9C3D3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7"/>
          <p:cNvSpPr/>
          <p:nvPr/>
        </p:nvSpPr>
        <p:spPr>
          <a:xfrm>
            <a:off x="990720" y="19810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3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+ 3 = 21 + 1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D1F2-423C-46A9-98CE-B2B0DB2CEC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7"/>
          <p:cNvSpPr/>
          <p:nvPr/>
        </p:nvSpPr>
        <p:spPr>
          <a:xfrm>
            <a:off x="304920" y="38098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 would you want to ask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7"/>
          <p:cNvSpPr/>
          <p:nvPr/>
        </p:nvSpPr>
        <p:spPr>
          <a:xfrm>
            <a:off x="990720" y="1981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7 = 21 + 1 = 22 + 3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20040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419720" y="1981080"/>
            <a:ext cx="457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3E51-BD7D-472C-A76B-64DDCA9E47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explore the differences between multiplicative and additive thinking (within proportional reas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reflect on the ways in which we respond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ED73-AECC-4C62-998F-F16718E70C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A418-8779-4F8E-9083-6BA372B7A3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up your own proportional reasoning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2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8CC0-315C-4922-805E-4A196D630A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http://www.freeclipartnow.com/d/26823-1/elegant-clock.jpg"/>
          <p:cNvPicPr/>
          <p:nvPr/>
        </p:nvPicPr>
        <p:blipFill>
          <a:blip r:embed="rId1"/>
          <a:stretch/>
        </p:blipFill>
        <p:spPr>
          <a:xfrm rot="18922800">
            <a:off x="5851440" y="3009600"/>
            <a:ext cx="2737080" cy="2705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time is i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s were cut off of this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own, determine what time the clock is sh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 few minutes,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hinking with your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7F8B-4C5A-46E1-AFEB-27FB10E923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0838-00DE-491A-84D2-D6176BA30D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E:\Beach Images\Landscapes (A - Ci)\Beach Scene 09.wmf"/>
          <p:cNvPicPr/>
          <p:nvPr/>
        </p:nvPicPr>
        <p:blipFill>
          <a:blip r:embed="rId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al concepts came out of that clock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proportional reasoning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24D5-C28B-47BD-9017-710B8545F6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Palm Tre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A611-E4D4-4E80-A98B-68AF965A9D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E:\Beach Images\Landscapes (A - Ci)\Beach Scene 20.wmf"/>
          <p:cNvPicPr/>
          <p:nvPr/>
        </p:nvPicPr>
        <p:blipFill>
          <a:blip r:embed="rId1"/>
          <a:stretch/>
        </p:blipFill>
        <p:spPr>
          <a:xfrm>
            <a:off x="990720" y="1600200"/>
            <a:ext cx="2057400" cy="2773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657600" y="32004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year, they were measured again.  Now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12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9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581280" y="137160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wo palm trees were measured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ree: 8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Tree: 5 m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057400" y="4876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palm tree grew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E:\Beach Images\Landscapes (A - Ci)\Beach Scene 09.wmf"/>
          <p:cNvPicPr/>
          <p:nvPr/>
        </p:nvPicPr>
        <p:blipFill>
          <a:blip r:embed="rId2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Famil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DBAF-AB10-4B5C-B9B7-B759AC243E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E:\Beach Images\Beach &amp; Water (C - G)\Family in Water.wmf"/>
          <p:cNvPicPr/>
          <p:nvPr/>
        </p:nvPicPr>
        <p:blipFill>
          <a:blip r:embed="rId2"/>
          <a:stretch/>
        </p:blipFill>
        <p:spPr>
          <a:xfrm>
            <a:off x="914400" y="1447920"/>
            <a:ext cx="354960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Beach Images\Beach &amp; Water (C - G)\Family on Beach 6.wmf"/>
          <p:cNvPicPr/>
          <p:nvPr/>
        </p:nvPicPr>
        <p:blipFill>
          <a:blip r:embed="rId3"/>
          <a:stretch/>
        </p:blipFill>
        <p:spPr>
          <a:xfrm>
            <a:off x="4952880" y="1600200"/>
            <a:ext cx="3776760" cy="2595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1752480" y="4724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family has more gir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25909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63244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Life Preserve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A435-B95A-4FBA-AFBA-F9579594CD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E:\Beach Images\Beach &amp; Water (C - G)\Float Toy.wmf"/>
          <p:cNvPicPr/>
          <p:nvPr/>
        </p:nvPicPr>
        <p:blipFill>
          <a:blip r:embed="rId1"/>
          <a:stretch/>
        </p:blipFill>
        <p:spPr>
          <a:xfrm>
            <a:off x="13716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:\Beach Images\Beach &amp; Water (C - G)\Float Toy.wmf"/>
          <p:cNvPicPr/>
          <p:nvPr/>
        </p:nvPicPr>
        <p:blipFill>
          <a:blip r:embed="rId2"/>
          <a:stretch/>
        </p:blipFill>
        <p:spPr>
          <a:xfrm>
            <a:off x="838080" y="30481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E:\Beach Images\Beach &amp; Water (C - G)\Float Toy.wmf"/>
          <p:cNvPicPr/>
          <p:nvPr/>
        </p:nvPicPr>
        <p:blipFill>
          <a:blip r:embed="rId3"/>
          <a:stretch/>
        </p:blipFill>
        <p:spPr>
          <a:xfrm>
            <a:off x="2743200" y="1523880"/>
            <a:ext cx="1371600" cy="78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E:\Beach Images\Beach &amp; Water (C - G)\Float Toy.wmf"/>
          <p:cNvPicPr/>
          <p:nvPr/>
        </p:nvPicPr>
        <p:blipFill>
          <a:blip r:embed="rId4"/>
          <a:stretch/>
        </p:blipFill>
        <p:spPr>
          <a:xfrm>
            <a:off x="22860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E:\Beach Images\Beach &amp; Water (C - G)\Float Toy.wmf"/>
          <p:cNvPicPr/>
          <p:nvPr/>
        </p:nvPicPr>
        <p:blipFill>
          <a:blip r:embed="rId5"/>
          <a:stretch/>
        </p:blipFill>
        <p:spPr>
          <a:xfrm>
            <a:off x="6477120" y="23623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E:\Beach Images\Beach &amp; Water (C - G)\Float Toy.wmf"/>
          <p:cNvPicPr/>
          <p:nvPr/>
        </p:nvPicPr>
        <p:blipFill>
          <a:blip r:embed="rId6"/>
          <a:stretch/>
        </p:blipFill>
        <p:spPr>
          <a:xfrm>
            <a:off x="5715000" y="1676520"/>
            <a:ext cx="1371600" cy="78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E:\Beach Images\Beach &amp; Water (K - P)\Life Preserver 04.wmf"/>
          <p:cNvPicPr/>
          <p:nvPr/>
        </p:nvPicPr>
        <p:blipFill>
          <a:blip r:embed="rId7"/>
          <a:stretch/>
        </p:blipFill>
        <p:spPr>
          <a:xfrm>
            <a:off x="152388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E:\Beach Images\Beach &amp; Water (K - P)\Life Preserver 04.wmf"/>
          <p:cNvPicPr/>
          <p:nvPr/>
        </p:nvPicPr>
        <p:blipFill>
          <a:blip r:embed="rId8"/>
          <a:stretch/>
        </p:blipFill>
        <p:spPr>
          <a:xfrm>
            <a:off x="2362320" y="2971800"/>
            <a:ext cx="1218960" cy="750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Beach Images\Beach &amp; Water (K - P)\Life Preserver 04.wmf"/>
          <p:cNvPicPr/>
          <p:nvPr/>
        </p:nvPicPr>
        <p:blipFill>
          <a:blip r:embed="rId9"/>
          <a:stretch/>
        </p:blipFill>
        <p:spPr>
          <a:xfrm>
            <a:off x="2743200" y="22096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Beach Images\Beach &amp; Water (K - P)\Life Preserver 04.wmf"/>
          <p:cNvPicPr/>
          <p:nvPr/>
        </p:nvPicPr>
        <p:blipFill>
          <a:blip r:embed="rId10"/>
          <a:stretch/>
        </p:blipFill>
        <p:spPr>
          <a:xfrm>
            <a:off x="228600" y="160020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Beach Images\Beach &amp; Water (K - P)\Life Preserver 04.wmf"/>
          <p:cNvPicPr/>
          <p:nvPr/>
        </p:nvPicPr>
        <p:blipFill>
          <a:blip r:embed="rId11"/>
          <a:stretch/>
        </p:blipFill>
        <p:spPr>
          <a:xfrm>
            <a:off x="5257800" y="2438280"/>
            <a:ext cx="1219320" cy="750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E:\Beach Images\Beach &amp; Water (K - P)\Life Preserver 04.wmf"/>
          <p:cNvPicPr/>
          <p:nvPr/>
        </p:nvPicPr>
        <p:blipFill>
          <a:blip r:embed="rId12"/>
          <a:stretch/>
        </p:blipFill>
        <p:spPr>
          <a:xfrm>
            <a:off x="7315200" y="1676520"/>
            <a:ext cx="1219320" cy="750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3"/>
          <p:cNvSpPr/>
          <p:nvPr/>
        </p:nvSpPr>
        <p:spPr>
          <a:xfrm>
            <a:off x="19810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64771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838080" y="4191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group has more duck life preserv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E:\Beach Images\Landscapes (A - Ci)\Beach Scene 09.wmf"/>
          <p:cNvPicPr/>
          <p:nvPr/>
        </p:nvPicPr>
        <p:blipFill>
          <a:blip r:embed="rId13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E:\Beach Images\Beach &amp; Water (C - G)\Float Toy.wmf"/>
          <p:cNvPicPr/>
          <p:nvPr/>
        </p:nvPicPr>
        <p:blipFill>
          <a:blip r:embed="rId14"/>
          <a:stretch/>
        </p:blipFill>
        <p:spPr>
          <a:xfrm>
            <a:off x="7772400" y="2362320"/>
            <a:ext cx="137160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2 different ways to interpret thes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ces between them and whether there’s an appropriate time to use each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DBDB-C64C-4D88-94B9-17EDD4537F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r thinking change during the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questions were asked which helped promote your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A7F8-3080-4745-9CCA-E937E727BD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E:\Beach Images\Landscapes (A - Ci)\Beach Scene 09.wmf"/>
          <p:cNvPicPr/>
          <p:nvPr/>
        </p:nvPicPr>
        <p:blipFill>
          <a:blip r:embed="rId1"/>
          <a:stretch/>
        </p:blipFill>
        <p:spPr>
          <a:xfrm>
            <a:off x="7620120" y="152280"/>
            <a:ext cx="1346040" cy="13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York Region District Schoolboard</cp:lastModifiedBy>
  <dcterms:modified xsi:type="dcterms:W3CDTF">2011-08-01T16:01:23Z</dcterms:modified>
  <cp:revision>48</cp:revision>
  <dc:subject/>
  <dc:title>&lt;Title&gt;</dc:title>
</cp:coreProperties>
</file>